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DC6-5D5E-4FFE-859E-D6167538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09A-56EB-476B-A408-3A66EFAE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E64-CC6F-461D-AFE6-A14E6AB8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970-4A6B-4FE6-909A-B6494E17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1B5-BCEE-4B6E-9546-04A103BD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937-ECF7-474E-B10F-599B629B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6D7-53E1-4759-AF9F-009766BB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730-76B5-42C9-B31B-D4626B8F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643-E8A2-4AF6-9463-F8908F00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592-441C-4139-BD2E-3507A2E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06D-C966-4AC2-85B7-83CF0CD9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273-CDB1-4A2D-8103-44FF63FE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E6F-B388-4DAC-AA7B-DB24E9CC1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84376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Environmenta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ruzer:Enviromentalism Pictures:gse_multipart45583.jpg"/>
          <p:cNvPicPr/>
          <p:nvPr/>
        </p:nvPicPr>
        <p:blipFill>
          <a:blip r:embed="rId2"/>
          <a:stretch/>
        </p:blipFill>
        <p:spPr>
          <a:xfrm>
            <a:off x="584280" y="3429000"/>
            <a:ext cx="2552760" cy="304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69920" y="4114800"/>
            <a:ext cx="660708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Presented by Kassidy He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May 17,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Period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ruzer:Enviromentalism Pictures:image003.gif"/>
          <p:cNvPicPr/>
          <p:nvPr/>
        </p:nvPicPr>
        <p:blipFill>
          <a:blip r:embed="rId3"/>
          <a:stretch/>
        </p:blipFill>
        <p:spPr>
          <a:xfrm>
            <a:off x="6756480" y="685800"/>
            <a:ext cx="3174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483120" y="990720"/>
            <a:ext cx="9664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ERA and Sustainability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2209320"/>
            <a:ext cx="86677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dvances in science and technolog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pplying government regulations 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olic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-282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otect Public health and welfa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-282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omote innovative green busin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acti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Cruzer:Enviromentalism Pictures:nuclearpowerplant.jpg"/>
          <p:cNvPicPr/>
          <p:nvPr/>
        </p:nvPicPr>
        <p:blipFill>
          <a:blip r:embed="rId2"/>
          <a:stretch/>
        </p:blipFill>
        <p:spPr>
          <a:xfrm>
            <a:off x="6603840" y="2438280"/>
            <a:ext cx="3238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What Caused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aus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851360" y="1523880"/>
            <a:ext cx="515952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obering international ev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catastrophic wea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visible climate chang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9/11 and w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gas shortages an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cientific consens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legitimized environmental concer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162080" y="4775040"/>
            <a:ext cx="77565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Also,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ndy"/>
              </a:rPr>
              <a:t>An Inconvenient truth </a:t>
            </a: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helped the climate crisis become more main stre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Cruzer:Enviromentalism Pictures:gassedUp.jpg"/>
          <p:cNvPicPr/>
          <p:nvPr/>
        </p:nvPicPr>
        <p:blipFill>
          <a:blip r:embed="rId2"/>
          <a:srcRect l="0" t="0" r="0" b="16000"/>
          <a:stretch/>
        </p:blipFill>
        <p:spPr>
          <a:xfrm>
            <a:off x="431640" y="10666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auses of the Climate Cris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2240" y="1523520"/>
            <a:ext cx="9080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jor part of the increased support of Environmentalism was that the Climate Crisis was becoming more appar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9200" y="2438280"/>
            <a:ext cx="463860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ndy"/>
              </a:rPr>
              <a:t>Natural causes include: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Volcanic Eruptions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Sunspots,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Wobbly earth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lternately exposing the northern and southern latitudes to more and less solar radi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16280" y="2438280"/>
            <a:ext cx="5183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     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ndy"/>
              </a:rPr>
              <a:t>Man Made Causes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uman created emissions of green house g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ncreased carbon dioxide emissions from fossil fuels and defores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ncreased methane gas from animal agricul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Cruzer:Enviromentalism Pictures:oxygen cylinder tree.gif"/>
          <p:cNvPicPr/>
          <p:nvPr/>
        </p:nvPicPr>
        <p:blipFill>
          <a:blip r:embed="rId2"/>
          <a:srcRect l="3434" t="2795" r="3996" b="5116"/>
          <a:stretch/>
        </p:blipFill>
        <p:spPr>
          <a:xfrm>
            <a:off x="3098880" y="457200"/>
            <a:ext cx="4495680" cy="56386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1" descr=""/>
          <p:cNvPicPr/>
          <p:nvPr/>
        </p:nvPicPr>
        <p:blipFill>
          <a:blip r:embed="rId3"/>
          <a:stretch/>
        </p:blipFill>
        <p:spPr>
          <a:xfrm>
            <a:off x="579600" y="3078000"/>
            <a:ext cx="90025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36200" y="1320480"/>
            <a:ext cx="694044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itizens have taken it up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selves to join global mov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"going green" / try 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onser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using hybrids or ma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transi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Telecommu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more people recycle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ompost, use organics, grow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garde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heightened understanding of saving money, improving health, and helping the environment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heightened interest in careers in green ener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Cruzer:Enviromentalism Pictures:co2offset.jpg"/>
          <p:cNvPicPr/>
          <p:nvPr/>
        </p:nvPicPr>
        <p:blipFill>
          <a:blip r:embed="rId2"/>
          <a:stretch/>
        </p:blipFill>
        <p:spPr>
          <a:xfrm>
            <a:off x="4546440" y="533520"/>
            <a:ext cx="4800600" cy="40384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" descr=""/>
          <p:cNvPicPr/>
          <p:nvPr/>
        </p:nvPicPr>
        <p:blipFill>
          <a:blip r:embed="rId3"/>
          <a:stretch/>
        </p:blipFill>
        <p:spPr>
          <a:xfrm>
            <a:off x="244440" y="554040"/>
            <a:ext cx="9674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1840" y="2336400"/>
            <a:ext cx="843624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How does it relate to pre-21st century Ame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Transcendentalism and Pragmatis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6800" y="1523520"/>
            <a:ext cx="925524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Transcendentalism     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Transcendentalis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most famously Henry David Thorea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Maine Woods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by Thorea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: conservation of and respect for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Pragmatis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Began in 186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Conservation of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Yosemite, John Mu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Cruzer:Enviromentalism Pictures:images.jpg"/>
          <p:cNvPicPr/>
          <p:nvPr/>
        </p:nvPicPr>
        <p:blipFill>
          <a:blip r:embed="rId2"/>
          <a:stretch/>
        </p:blipFill>
        <p:spPr>
          <a:xfrm>
            <a:off x="5994360" y="3505320"/>
            <a:ext cx="250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0080" y="12193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Teddy Roosevel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Cruzer:Enviromentalism Pictures:images1.jpg"/>
          <p:cNvPicPr/>
          <p:nvPr/>
        </p:nvPicPr>
        <p:blipFill>
          <a:blip r:embed="rId2"/>
          <a:stretch/>
        </p:blipFill>
        <p:spPr>
          <a:xfrm>
            <a:off x="6527880" y="60948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2454120"/>
            <a:ext cx="896148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Roosevelt and John Muir popularized environmental conserv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1916 National park service established by Stephan Ma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World Wars and Depression ended wave of environmentalis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Rachel Car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12880" y="2286000"/>
            <a:ext cx="7289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Silent Spring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    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previously only focused on preservation of land (post WWII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  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focused more on toxins in consumer products and the claim that "controlling nature is both arrogant and morally bankru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reading.jpg"/>
          <p:cNvPicPr/>
          <p:nvPr/>
        </p:nvPicPr>
        <p:blipFill>
          <a:blip r:embed="rId2"/>
          <a:stretch/>
        </p:blipFill>
        <p:spPr>
          <a:xfrm flipH="1">
            <a:off x="6856560" y="380880"/>
            <a:ext cx="3303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66880" y="4564080"/>
            <a:ext cx="660888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--Dennis Gabor, </a:t>
            </a:r>
            <a:r>
              <a:rPr b="0" i="1" lang="en-US" sz="3200" spc="-1" strike="noStrike">
                <a:solidFill>
                  <a:srgbClr val="c4da39"/>
                </a:solidFill>
                <a:latin typeface="Trebuchet MS"/>
              </a:rPr>
              <a:t>Inventing the Future, 19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263600" y="914400"/>
            <a:ext cx="7464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'Bradley Hand ITC'"/>
              </a:rPr>
              <a:t>Till now man has been up against Nature; from now on he will be up against his own nature.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Cruzer:Enviromentalism Pictures:1249514257XJKfGB.jpg"/>
          <p:cNvPicPr/>
          <p:nvPr/>
        </p:nvPicPr>
        <p:blipFill>
          <a:blip r:embed="rId2"/>
          <a:stretch/>
        </p:blipFill>
        <p:spPr>
          <a:xfrm rot="20340000">
            <a:off x="369720" y="3073320"/>
            <a:ext cx="23068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1970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1680" y="2560320"/>
            <a:ext cx="54864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National Environmental Policy Act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Clean Air Ac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founding of Earth Day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banning of DD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Water Pollution Control Act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and the Endangered Species Ac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leanair-quicksketch-buildings.jpg"/>
          <p:cNvPicPr/>
          <p:nvPr/>
        </p:nvPicPr>
        <p:blipFill>
          <a:blip r:embed="rId2"/>
          <a:stretch/>
        </p:blipFill>
        <p:spPr>
          <a:xfrm>
            <a:off x="736560" y="762120"/>
            <a:ext cx="2465280" cy="314640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4" descr=""/>
          <p:cNvPicPr/>
          <p:nvPr/>
        </p:nvPicPr>
        <p:blipFill>
          <a:blip r:embed="rId3"/>
          <a:stretch/>
        </p:blipFill>
        <p:spPr>
          <a:xfrm>
            <a:off x="646200" y="1579680"/>
            <a:ext cx="8564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1980s and 1990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hippie-printable-coloring-pages-1_LRG.jpg"/>
          <p:cNvPicPr/>
          <p:nvPr/>
        </p:nvPicPr>
        <p:blipFill>
          <a:blip r:embed="rId2"/>
          <a:stretch/>
        </p:blipFill>
        <p:spPr>
          <a:xfrm>
            <a:off x="6985080" y="380880"/>
            <a:ext cx="2484360" cy="3581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52600" y="1492200"/>
            <a:ext cx="89596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1980s = 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Oil spi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Exxon Valdez in 19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Backlash from industry against environment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strictures, the various Acts were not overturn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1990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radical environmentalis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PETA, Earth First, 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activists chained themselves to trees --&gt; name "tree-huggers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environmentalism was plagued with idea of being a religious, cult-like, anti-property ownership and anti-capitalists soci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climate change labeled as an overreaction from misguided "environmentalist wackos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Critical Thinking Ques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7960" y="590040"/>
            <a:ext cx="96616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How does the environmentalism of today compare with that of the 1970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5320" y="2514600"/>
            <a:ext cx="86742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nvironmentalism of today is more main stream. 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need to be environmentally conscious is more apparent now then ever befor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1970s = it was more of a radical idea. I think th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earth day coloring pages 1.gif"/>
          <p:cNvPicPr/>
          <p:nvPr/>
        </p:nvPicPr>
        <p:blipFill>
          <a:blip r:embed="rId2"/>
          <a:stretch/>
        </p:blipFill>
        <p:spPr>
          <a:xfrm>
            <a:off x="6375240" y="3733920"/>
            <a:ext cx="328320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7960" y="590040"/>
            <a:ext cx="96616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y is it important to be apart of the "go green" movemen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720" y="1929960"/>
            <a:ext cx="924408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already experiencing the consequences of global warming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ot, dry weather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ealth risks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ndangerment of wild life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melting glaciers and rising sea level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Worse and place a huge burden on future gener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world would cease to exist if we continue at this r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Cruzer:Enviromentalism Pictures:1249514257XJKfGB.jpg"/>
          <p:cNvPicPr/>
          <p:nvPr/>
        </p:nvPicPr>
        <p:blipFill>
          <a:blip r:embed="rId2"/>
          <a:stretch/>
        </p:blipFill>
        <p:spPr>
          <a:xfrm rot="1695600">
            <a:off x="7527600" y="1949040"/>
            <a:ext cx="21351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da39"/>
                </a:solidFill>
                <a:latin typeface="Trebuchet MS"/>
              </a:rPr>
              <a:t>--Marshal McLuhan, 19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protect-environment-coloring-page.jpg"/>
          <p:cNvPicPr/>
          <p:nvPr/>
        </p:nvPicPr>
        <p:blipFill>
          <a:blip r:embed="rId2"/>
          <a:stretch/>
        </p:blipFill>
        <p:spPr>
          <a:xfrm rot="21358800">
            <a:off x="6342120" y="1004760"/>
            <a:ext cx="2690640" cy="348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arth day coloring pages 3.gif"/>
          <p:cNvPicPr/>
          <p:nvPr/>
        </p:nvPicPr>
        <p:blipFill>
          <a:blip r:embed="rId3"/>
          <a:stretch/>
        </p:blipFill>
        <p:spPr>
          <a:xfrm>
            <a:off x="431640" y="2971800"/>
            <a:ext cx="3294360" cy="3359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2438280"/>
            <a:ext cx="9855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'Bradley Hand ITC'"/>
              </a:rPr>
              <a:t>There are no passengers on Spaceship Earth. We are all crew.</a:t>
            </a:r>
            <a:r>
              <a:rPr b="1" i="1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6200" y="160020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ebecoist.com/2008/08/17/a-brief-history-of-the-modern-green-movement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nrdc.org/globalwarming/fcons.as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epa.gov/sustainability/basicinfo.h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environment.nationalgeographic.com/environment/global-warming/gw-overview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lewrockwell.com/rozeff/rozeff151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fotosearch.com/photos-images/environmentalism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symbolsgraphics.com/pictures/Na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cagle.com/news/EnvironmentMadden/main.as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switchboard.nrdc.org/blogs/kbenfield/more_on_the_semantics_of_susta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aarontheartist.com/?p=94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27120" y="990720"/>
            <a:ext cx="19875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65200" y="22856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growing notion of environmentalism is a key part in improving the world we live in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ruzer:Enviromentalism Pictures:czech_republic1.gif"/>
          <p:cNvPicPr/>
          <p:nvPr/>
        </p:nvPicPr>
        <p:blipFill>
          <a:blip r:embed="rId2"/>
          <a:stretch/>
        </p:blipFill>
        <p:spPr>
          <a:xfrm>
            <a:off x="355680" y="152388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environmentalism?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Descriptio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Environmentalism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68520" y="2031480"/>
            <a:ext cx="654048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road idea and social move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volving concerns for environmental conserv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ess of the state of the environ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ed by color gre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Cruzer:Enviromentalism Pictures:ecologo.jpg"/>
          <p:cNvPicPr/>
          <p:nvPr/>
        </p:nvPicPr>
        <p:blipFill>
          <a:blip r:embed="rId2"/>
          <a:stretch/>
        </p:blipFill>
        <p:spPr>
          <a:xfrm>
            <a:off x="7975440" y="685800"/>
            <a:ext cx="1648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Parts of Environmentalism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Factual Ques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7960" y="588600"/>
            <a:ext cx="97171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the ERA? And, What role to they play in environmentalism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5"/>
          <p:cNvSpPr/>
          <p:nvPr/>
        </p:nvSpPr>
        <p:spPr>
          <a:xfrm>
            <a:off x="4273560" y="3460680"/>
            <a:ext cx="636480" cy="376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Cruzer:Enviromentalism Pictures:iStock_000010525240XSmall.jpg"/>
          <p:cNvPicPr/>
          <p:nvPr/>
        </p:nvPicPr>
        <p:blipFill>
          <a:blip r:embed="rId2"/>
          <a:stretch/>
        </p:blipFill>
        <p:spPr>
          <a:xfrm rot="2407800">
            <a:off x="7059240" y="3738240"/>
            <a:ext cx="272088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5880" y="2199960"/>
            <a:ext cx="814536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Environmental Protection Agenc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Originally: ensured businesses met the legal requirements of pollution contro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Controlling pollution        Preventing pollu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Reduce pollutants like nitrogen oxide in the ozo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Focus on </a:t>
            </a:r>
            <a:r>
              <a:rPr b="1" lang="en-US" sz="3200" spc="-1" strike="noStrike" u="sng">
                <a:solidFill>
                  <a:srgbClr val="274e13"/>
                </a:solidFill>
                <a:uFillTx/>
                <a:latin typeface="Andy"/>
              </a:rPr>
              <a:t>SUSTAINABILIT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ndy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Sustainability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000" y="1219320"/>
            <a:ext cx="92962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411480" indent="-30816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3 ideas: environment, economy, and social justi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30816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1970s: Nation Environmental Policy Act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771120" indent="-2566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national goal: humans and nature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-20556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existing in productive harmony,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-20556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meet social and economic need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of fut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31640" y="3827520"/>
            <a:ext cx="60199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dea evolved: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upport a growing economy, reducing social and economic costs of economic grow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ruzer:Enviromentalism Pictures:sustainability.jpg"/>
          <p:cNvPicPr/>
          <p:nvPr/>
        </p:nvPicPr>
        <p:blipFill>
          <a:blip r:embed="rId2"/>
          <a:stretch/>
        </p:blipFill>
        <p:spPr>
          <a:xfrm>
            <a:off x="6222960" y="1905120"/>
            <a:ext cx="3657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1015560"/>
            <a:ext cx="9661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Sustainability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7080" y="2895120"/>
            <a:ext cx="831852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                   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ssentially, the idea of sustainability is to meet existing natural and economic requirements and all the people without compromising the capability of future generations to do the same according to 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sustaindane.or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Cruzer:Enviromentalism Pictures:windmill.jpg"/>
          <p:cNvPicPr/>
          <p:nvPr/>
        </p:nvPicPr>
        <p:blipFill>
          <a:blip r:embed="rId2"/>
          <a:stretch/>
        </p:blipFill>
        <p:spPr>
          <a:xfrm>
            <a:off x="736560" y="685800"/>
            <a:ext cx="2489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6:37:10Z</dcterms:created>
  <dc:creator>Google</dc:creator>
  <dc:description/>
  <dc:language>en-US</dc:language>
  <cp:lastModifiedBy>Kassidy Hebert</cp:lastModifiedBy>
  <dcterms:modified xsi:type="dcterms:W3CDTF">2011-05-17T16:58:18Z</dcterms:modified>
  <cp:revision>6</cp:revision>
  <dc:subject/>
  <dc:title>PowerPoint Presentation</dc:title>
</cp:coreProperties>
</file>