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DD3-5FE5-4246-9B02-86C04800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ED0-A44F-4EC3-A7A0-8228C10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349-C78B-47C0-B6C9-F63EB811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CE2-A6BB-48C6-BAF8-9917C16A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6F6-BDB3-45C6-B510-EA62EAD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8A4-0CF3-4BA7-A147-4135D47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1CB-7531-4EE7-B267-E88EC507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BDC-C1BE-4FC9-B002-2F29051A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688-A344-4313-B236-275D75E4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9F9-67F7-4F4C-9BE6-3BCE043C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38F-9D5C-46C8-B4B0-735D682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45E-D504-42BA-A294-7C4DDFD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A9A-1668-4DBC-B7A3-AB5C5DFE0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4376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Environmenta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ruzer:Enviromentalism Pictures:gse_multipart45583.jpg"/>
          <p:cNvPicPr/>
          <p:nvPr/>
        </p:nvPicPr>
        <p:blipFill>
          <a:blip r:embed="rId2"/>
          <a:stretch/>
        </p:blipFill>
        <p:spPr>
          <a:xfrm>
            <a:off x="584280" y="3429000"/>
            <a:ext cx="255276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69920" y="4114800"/>
            <a:ext cx="66070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resented by Kassidy He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May 17,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erio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ruzer:Enviromentalism Pictures:image003.gif"/>
          <p:cNvPicPr/>
          <p:nvPr/>
        </p:nvPicPr>
        <p:blipFill>
          <a:blip r:embed="rId3"/>
          <a:stretch/>
        </p:blipFill>
        <p:spPr>
          <a:xfrm>
            <a:off x="6756480" y="685800"/>
            <a:ext cx="3174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483120" y="990720"/>
            <a:ext cx="9664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RA and 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2209320"/>
            <a:ext cx="86677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dvances in science and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pplying government regulations 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olic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tect Public health and welf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mote innovative green busin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acti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ruzer:Enviromentalism Pictures:nuclearpowerplant.jpg"/>
          <p:cNvPicPr/>
          <p:nvPr/>
        </p:nvPicPr>
        <p:blipFill>
          <a:blip r:embed="rId2"/>
          <a:stretch/>
        </p:blipFill>
        <p:spPr>
          <a:xfrm>
            <a:off x="6603840" y="2438280"/>
            <a:ext cx="3238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at Caused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851360" y="1523880"/>
            <a:ext cx="51595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obering international ev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atastrophic we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visible climate chang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9/11 and w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gas shortages an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cientific consens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legitimized environmental concer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62080" y="4775040"/>
            <a:ext cx="7756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Also,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An Inconvenient truth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helped the climate crisis become more main stre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ruzer:Enviromentalism Pictures:gassedUp.jpg"/>
          <p:cNvPicPr/>
          <p:nvPr/>
        </p:nvPicPr>
        <p:blipFill>
          <a:blip r:embed="rId2"/>
          <a:srcRect l="0" t="0" r="0" b="16000"/>
          <a:stretch/>
        </p:blipFill>
        <p:spPr>
          <a:xfrm>
            <a:off x="431640" y="1066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 of the Climate Cri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2240" y="1523520"/>
            <a:ext cx="9080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jor part of the increased support of Environmentalism was that the Climate Crisis was becoming more appar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9200" y="2438280"/>
            <a:ext cx="46386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ndy"/>
              </a:rPr>
              <a:t>Natural causes include: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Volcanic Eruptions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nspots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Wobbly earth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lternately exposing the northern and southern latitudes to more and less solar radi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16280" y="2438280"/>
            <a:ext cx="5183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Man Made Causes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uman created emissions of green house 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carbon dioxide emissions from fossil fuels and defores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methane gas from animal agricul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ruzer:Enviromentalism Pictures:oxygen cylinder tree.gif"/>
          <p:cNvPicPr/>
          <p:nvPr/>
        </p:nvPicPr>
        <p:blipFill>
          <a:blip r:embed="rId2"/>
          <a:srcRect l="3434" t="2795" r="3996" b="5116"/>
          <a:stretch/>
        </p:blipFill>
        <p:spPr>
          <a:xfrm>
            <a:off x="3098880" y="457200"/>
            <a:ext cx="4495680" cy="56386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" descr=""/>
          <p:cNvPicPr/>
          <p:nvPr/>
        </p:nvPicPr>
        <p:blipFill>
          <a:blip r:embed="rId3"/>
          <a:stretch/>
        </p:blipFill>
        <p:spPr>
          <a:xfrm>
            <a:off x="579600" y="3078000"/>
            <a:ext cx="90025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36200" y="1320480"/>
            <a:ext cx="69404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itizens have taken it up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selves to join global mov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"going green" / try 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nser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using hybrids or ma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ransi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elecommu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more people recycl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mpost, use organics, gr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garde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understanding of saving money, improving health, and helping the environment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interest in careers in green ener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ruzer:Enviromentalism Pictures:co2offset.jpg"/>
          <p:cNvPicPr/>
          <p:nvPr/>
        </p:nvPicPr>
        <p:blipFill>
          <a:blip r:embed="rId2"/>
          <a:stretch/>
        </p:blipFill>
        <p:spPr>
          <a:xfrm>
            <a:off x="4546440" y="53352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" descr=""/>
          <p:cNvPicPr/>
          <p:nvPr/>
        </p:nvPicPr>
        <p:blipFill>
          <a:blip r:embed="rId3"/>
          <a:stretch/>
        </p:blipFill>
        <p:spPr>
          <a:xfrm>
            <a:off x="244440" y="554040"/>
            <a:ext cx="9674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1840" y="2336400"/>
            <a:ext cx="843624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How does it relate to pre-21st century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ranscendentalism and Pragmat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1523520"/>
            <a:ext cx="925524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m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most famously Henry David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Maine Woods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y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: conservation of and respect for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agmat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egan in 186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onservation of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Yosemite, John Mu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ruzer:Enviromentalism Pictures:images.jpg"/>
          <p:cNvPicPr/>
          <p:nvPr/>
        </p:nvPicPr>
        <p:blipFill>
          <a:blip r:embed="rId2"/>
          <a:stretch/>
        </p:blipFill>
        <p:spPr>
          <a:xfrm>
            <a:off x="5994360" y="3505320"/>
            <a:ext cx="250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0080" y="12193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eddy Roosevel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Cruzer:Enviromentalism Pictures:images1.jpg"/>
          <p:cNvPicPr/>
          <p:nvPr/>
        </p:nvPicPr>
        <p:blipFill>
          <a:blip r:embed="rId2"/>
          <a:stretch/>
        </p:blipFill>
        <p:spPr>
          <a:xfrm>
            <a:off x="6527880" y="60948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2454120"/>
            <a:ext cx="896148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Roosevelt and John Muir popularized environmental conserv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16 National park service established by Stephan M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ld Wars and Depression ended wave of environmental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achel Car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12880" y="2286000"/>
            <a:ext cx="7289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Silent Spring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    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eviously only focused on preservation of land (post WWII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focused more on toxins in consumer products and the claim that "controlling nature is both arrogant and morally bankru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reading.jpg"/>
          <p:cNvPicPr/>
          <p:nvPr/>
        </p:nvPicPr>
        <p:blipFill>
          <a:blip r:embed="rId2"/>
          <a:stretch/>
        </p:blipFill>
        <p:spPr>
          <a:xfrm flipH="1">
            <a:off x="6856560" y="380880"/>
            <a:ext cx="330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6880" y="4564080"/>
            <a:ext cx="660888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--Dennis Gabor, </a:t>
            </a:r>
            <a:r>
              <a:rPr b="0" i="1" lang="en-US" sz="3200" spc="-1" strike="noStrike">
                <a:solidFill>
                  <a:srgbClr val="c4da39"/>
                </a:solidFill>
                <a:latin typeface="Trebuchet MS"/>
              </a:rPr>
              <a:t>Inventing the Future, 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63600" y="914400"/>
            <a:ext cx="7464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'Bradley Hand ITC'"/>
              </a:rPr>
              <a:t>Till now man has been up against Nature; from now on he will be up against his own nature.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20340000">
            <a:off x="369720" y="3073320"/>
            <a:ext cx="2306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7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1680" y="2560320"/>
            <a:ext cx="5486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National Environmental Policy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Clean Air Ac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founding of Earth Day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banning of DD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ater Pollution Control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nd the Endangered Species A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leanair-quicksketch-buildings.jpg"/>
          <p:cNvPicPr/>
          <p:nvPr/>
        </p:nvPicPr>
        <p:blipFill>
          <a:blip r:embed="rId2"/>
          <a:stretch/>
        </p:blipFill>
        <p:spPr>
          <a:xfrm>
            <a:off x="736560" y="762120"/>
            <a:ext cx="2465280" cy="31464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4" descr=""/>
          <p:cNvPicPr/>
          <p:nvPr/>
        </p:nvPicPr>
        <p:blipFill>
          <a:blip r:embed="rId3"/>
          <a:stretch/>
        </p:blipFill>
        <p:spPr>
          <a:xfrm>
            <a:off x="646200" y="1579680"/>
            <a:ext cx="856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80s and 199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ippie-printable-coloring-pages-1_LRG.jpg"/>
          <p:cNvPicPr/>
          <p:nvPr/>
        </p:nvPicPr>
        <p:blipFill>
          <a:blip r:embed="rId2"/>
          <a:stretch/>
        </p:blipFill>
        <p:spPr>
          <a:xfrm>
            <a:off x="6985080" y="380880"/>
            <a:ext cx="2484360" cy="358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52600" y="1492200"/>
            <a:ext cx="89596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80s = 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Oil sp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xxon Valdez in 19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Backlash from industry against environment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strictures, the various Acts were not overturn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90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radical environmentalis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PETA, Earth First, 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activists chained themselves to trees --&gt; name "tree-hugger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nvironmentalism was plagued with idea of being a religious, cult-like, anti-property ownership and anti-capitalists soci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climate change labeled as an overreaction from misguided "environmentalist wacko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Critical Thinking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does the environmentalism of today compare with that of the 1970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5320" y="2514600"/>
            <a:ext cx="86742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vironmentalism of today is more main stream. 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need to be environmentally conscious is more apparent now then ever befor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70s = it was more of a radical idea. I think th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earth day coloring pages 1.gif"/>
          <p:cNvPicPr/>
          <p:nvPr/>
        </p:nvPicPr>
        <p:blipFill>
          <a:blip r:embed="rId2"/>
          <a:stretch/>
        </p:blipFill>
        <p:spPr>
          <a:xfrm>
            <a:off x="6375240" y="3733920"/>
            <a:ext cx="32832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y is it important to be apart of the "go green" movemen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720" y="1929960"/>
            <a:ext cx="92440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lready experiencing the consequences of global warming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ot, dry weather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ealth risks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dangerment of wild life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melting glaciers and rising sea level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se and place a huge burden on future gene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orld would cease to exist if we continue at this r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1695600">
            <a:off x="7527600" y="1949040"/>
            <a:ext cx="2135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da39"/>
                </a:solidFill>
                <a:latin typeface="Trebuchet MS"/>
              </a:rPr>
              <a:t>--Marshal McLuhan, 1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protect-environment-coloring-page.jpg"/>
          <p:cNvPicPr/>
          <p:nvPr/>
        </p:nvPicPr>
        <p:blipFill>
          <a:blip r:embed="rId2"/>
          <a:stretch/>
        </p:blipFill>
        <p:spPr>
          <a:xfrm rot="21358800">
            <a:off x="6342120" y="1004760"/>
            <a:ext cx="2690640" cy="348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rth day coloring pages 3.gif"/>
          <p:cNvPicPr/>
          <p:nvPr/>
        </p:nvPicPr>
        <p:blipFill>
          <a:blip r:embed="rId3"/>
          <a:stretch/>
        </p:blipFill>
        <p:spPr>
          <a:xfrm>
            <a:off x="431640" y="2971800"/>
            <a:ext cx="3294360" cy="3359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2438280"/>
            <a:ext cx="9855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'Bradley Hand ITC'"/>
              </a:rPr>
              <a:t>There are no passengers on Spaceship Earth. We are all crew.</a:t>
            </a:r>
            <a:r>
              <a:rPr b="1" i="1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6200" y="160020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ebecoist.com/2008/08/17/a-brief-history-of-the-modern-green-movement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nrdc.org/globalwarming/fcons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epa.gov/sustainability/basicinfo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environment.nationalgeographic.com/environment/global-warming/gw-overview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lewrockwell.com/rozeff/rozeff151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fotosearch.com/photos-images/environmentalism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symbolsgraphics.com/pictures/N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agle.com/news/EnvironmentMadden/main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switchboard.nrdc.org/blogs/kbenfield/more_on_the_semantics_of_susta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aarontheartist.com/?p=94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27120" y="990720"/>
            <a:ext cx="1987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65200" y="22856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owing notion of environmentalism is a key part in improving the world we live in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ruzer:Enviromentalism Pictures:czech_republic1.gif"/>
          <p:cNvPicPr/>
          <p:nvPr/>
        </p:nvPicPr>
        <p:blipFill>
          <a:blip r:embed="rId2"/>
          <a:stretch/>
        </p:blipFill>
        <p:spPr>
          <a:xfrm>
            <a:off x="355680" y="152388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environmentalism?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Descriptio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nvironmentalism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68520" y="2031480"/>
            <a:ext cx="65404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ad idea and social mov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olving concerns for environmental conserv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 of the state of the environ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ed by color gr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ruzer:Enviromentalism Pictures:ecologo.jpg"/>
          <p:cNvPicPr/>
          <p:nvPr/>
        </p:nvPicPr>
        <p:blipFill>
          <a:blip r:embed="rId2"/>
          <a:stretch/>
        </p:blipFill>
        <p:spPr>
          <a:xfrm>
            <a:off x="7975440" y="685800"/>
            <a:ext cx="1648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Parts of Environmentalism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Factual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7960" y="588600"/>
            <a:ext cx="97171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the ERA? And, What role to they play in environmentalis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5"/>
          <p:cNvSpPr/>
          <p:nvPr/>
        </p:nvSpPr>
        <p:spPr>
          <a:xfrm>
            <a:off x="4273560" y="3460680"/>
            <a:ext cx="636480" cy="376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ruzer:Enviromentalism Pictures:iStock_000010525240XSmall.jpg"/>
          <p:cNvPicPr/>
          <p:nvPr/>
        </p:nvPicPr>
        <p:blipFill>
          <a:blip r:embed="rId2"/>
          <a:stretch/>
        </p:blipFill>
        <p:spPr>
          <a:xfrm rot="2407800">
            <a:off x="7059240" y="3738240"/>
            <a:ext cx="27208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880" y="2199960"/>
            <a:ext cx="814536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nvironmental Protection Agen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riginally: ensured businesses met the legal requirements of pollution 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Controlling pollution        Preventing pollu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Reduce pollutants like nitrogen oxide in the oz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Focus on </a:t>
            </a:r>
            <a:r>
              <a:rPr b="1" lang="en-US" sz="3200" spc="-1" strike="noStrike" u="sng">
                <a:solidFill>
                  <a:srgbClr val="274e13"/>
                </a:solidFill>
                <a:uFillTx/>
                <a:latin typeface="Andy"/>
              </a:rPr>
              <a:t>SUSTAINABILIT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y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Sustainabilit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21932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3 ideas: environment, economy, and social just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1970s: Nation Environmental Policy Act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1120" indent="-2566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national goal: humans and nature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xisting in productive harmony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meet social and economic need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f fu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31640" y="3827520"/>
            <a:ext cx="6019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dea evolved: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upport a growing economy, reducing social and economic costs of economic grow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ruzer:Enviromentalism Pictures:sustainability.jpg"/>
          <p:cNvPicPr/>
          <p:nvPr/>
        </p:nvPicPr>
        <p:blipFill>
          <a:blip r:embed="rId2"/>
          <a:stretch/>
        </p:blipFill>
        <p:spPr>
          <a:xfrm>
            <a:off x="6222960" y="1905120"/>
            <a:ext cx="365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1015560"/>
            <a:ext cx="9661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080" y="2895120"/>
            <a:ext cx="8318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             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ssentially, the idea of sustainability is to meet existing natural and economic requirements and all the people without compromising the capability of future generations to do the same according to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staindane.or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ruzer:Enviromentalism Pictures:windmill.jpg"/>
          <p:cNvPicPr/>
          <p:nvPr/>
        </p:nvPicPr>
        <p:blipFill>
          <a:blip r:embed="rId2"/>
          <a:stretch/>
        </p:blipFill>
        <p:spPr>
          <a:xfrm>
            <a:off x="736560" y="685800"/>
            <a:ext cx="2489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37:10Z</dcterms:created>
  <dc:creator>Google</dc:creator>
  <dc:description/>
  <dc:language>en-US</dc:language>
  <cp:lastModifiedBy>Kassidy Hebert</cp:lastModifiedBy>
  <dcterms:modified xsi:type="dcterms:W3CDTF">2011-05-17T16:58:18Z</dcterms:modified>
  <cp:revision>6</cp:revision>
  <dc:subject/>
  <dc:title>PowerPoint Presentation</dc:title>
</cp:coreProperties>
</file>