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6F6-6CE4-40E7-8BAF-E2A0826A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DC0-6856-47F3-AC13-AF0D2126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5160-0146-434B-B423-859F01AF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01F-D0B9-4B4B-B7E0-8E6133D3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394-EE16-4B32-9375-5778BF6A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AD1-2E6B-414D-B052-4C5D3F4B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83B-F127-4B6B-B074-9056C944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B1D-DF4F-40C4-AE62-B538B50C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F48-867A-4448-955A-E5CA203D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F8B-0E15-4113-AACD-D68D24FF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334B-9C3E-4B67-901F-03558167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DF0-2751-4A07-844F-59A13719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F7B9-69F0-4CE1-88D1-06AF77417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843768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Environmenta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Cruzer:Enviromentalism Pictures:gse_multipart45583.jpg"/>
          <p:cNvPicPr/>
          <p:nvPr/>
        </p:nvPicPr>
        <p:blipFill>
          <a:blip r:embed="rId2"/>
          <a:stretch/>
        </p:blipFill>
        <p:spPr>
          <a:xfrm>
            <a:off x="584280" y="3429000"/>
            <a:ext cx="2552760" cy="3048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869920" y="4114800"/>
            <a:ext cx="660708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Presented by Kassidy Heb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May 17, 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Period 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Cruzer:Enviromentalism Pictures:image003.gif"/>
          <p:cNvPicPr/>
          <p:nvPr/>
        </p:nvPicPr>
        <p:blipFill>
          <a:blip r:embed="rId3"/>
          <a:stretch/>
        </p:blipFill>
        <p:spPr>
          <a:xfrm>
            <a:off x="6756480" y="685800"/>
            <a:ext cx="31748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483120" y="990720"/>
            <a:ext cx="9664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ERA and Sustainability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3920" y="2209320"/>
            <a:ext cx="86677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452520" indent="-3391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Advances in science and technolog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91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Applying government regulations 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polici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48520" indent="-28260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protect Public health and welfar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48520" indent="-28260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promote innovative green busines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48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practic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Cruzer:Enviromentalism Pictures:nuclearpowerplant.jpg"/>
          <p:cNvPicPr/>
          <p:nvPr/>
        </p:nvPicPr>
        <p:blipFill>
          <a:blip r:embed="rId2"/>
          <a:stretch/>
        </p:blipFill>
        <p:spPr>
          <a:xfrm>
            <a:off x="6603840" y="2438280"/>
            <a:ext cx="323856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What Caused 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Caus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851360" y="1523880"/>
            <a:ext cx="515952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Sobering international event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catastrophic weat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visible climate chang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9/11 and wa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gas shortages and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scientific consensu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legitimized environmental concer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162080" y="4775040"/>
            <a:ext cx="775656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ndy"/>
              </a:rPr>
              <a:t>Also,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ndy"/>
              </a:rPr>
              <a:t>An Inconvenient truth </a:t>
            </a:r>
            <a:r>
              <a:rPr b="0" i="1" lang="en-US" sz="2700" spc="-1" strike="noStrike">
                <a:solidFill>
                  <a:srgbClr val="000000"/>
                </a:solidFill>
                <a:latin typeface="Andy"/>
              </a:rPr>
              <a:t>helped the climate crisis become more main strea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Cruzer:Enviromentalism Pictures:gassedUp.jpg"/>
          <p:cNvPicPr/>
          <p:nvPr/>
        </p:nvPicPr>
        <p:blipFill>
          <a:blip r:embed="rId2"/>
          <a:srcRect l="0" t="0" r="0" b="16000"/>
          <a:stretch/>
        </p:blipFill>
        <p:spPr>
          <a:xfrm>
            <a:off x="431640" y="106668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Causes of the Climate Crisi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52240" y="1523520"/>
            <a:ext cx="908028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major part of the increased support of Environmentalism was that the Climate Crisis was becoming more appar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49200" y="2438280"/>
            <a:ext cx="4638600" cy="37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ndy"/>
              </a:rPr>
              <a:t>Natural causes include: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Volcanic Eruptions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Sunspots,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Wobbly earth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alternately exposing the northern and southern latitudes to more and less solar radi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616280" y="2438280"/>
            <a:ext cx="518328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       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ndy"/>
              </a:rPr>
              <a:t>Man Made Causes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human created emissions of green house ga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Increased carbon dioxide emissions from fossil fuels and deforest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Increased methane gas from animal agricul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Cruzer:Enviromentalism Pictures:oxygen cylinder tree.gif"/>
          <p:cNvPicPr/>
          <p:nvPr/>
        </p:nvPicPr>
        <p:blipFill>
          <a:blip r:embed="rId2"/>
          <a:srcRect l="3434" t="2795" r="3996" b="5116"/>
          <a:stretch/>
        </p:blipFill>
        <p:spPr>
          <a:xfrm>
            <a:off x="3098880" y="457200"/>
            <a:ext cx="4495680" cy="563868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1" descr=""/>
          <p:cNvPicPr/>
          <p:nvPr/>
        </p:nvPicPr>
        <p:blipFill>
          <a:blip r:embed="rId3"/>
          <a:stretch/>
        </p:blipFill>
        <p:spPr>
          <a:xfrm>
            <a:off x="579600" y="3078000"/>
            <a:ext cx="900252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36200" y="1320480"/>
            <a:ext cx="6940440" cy="50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citizens have taken it upo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selves to join global mov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"going green" / try to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conserv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using hybrids or mas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transit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Telecommut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more people recycle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compost, use organics, grow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garde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heightened understanding of saving money, improving health, and helping the environment 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heightened interest in careers in green ener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Cruzer:Enviromentalism Pictures:co2offset.jpg"/>
          <p:cNvPicPr/>
          <p:nvPr/>
        </p:nvPicPr>
        <p:blipFill>
          <a:blip r:embed="rId2"/>
          <a:stretch/>
        </p:blipFill>
        <p:spPr>
          <a:xfrm>
            <a:off x="4546440" y="533520"/>
            <a:ext cx="4800600" cy="403848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1" descr=""/>
          <p:cNvPicPr/>
          <p:nvPr/>
        </p:nvPicPr>
        <p:blipFill>
          <a:blip r:embed="rId3"/>
          <a:stretch/>
        </p:blipFill>
        <p:spPr>
          <a:xfrm>
            <a:off x="244440" y="554040"/>
            <a:ext cx="96742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61840" y="2336400"/>
            <a:ext cx="8436240" cy="15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How does it relate to pre-21st century Americ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Transcendentalism and Pragmatis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6800" y="1523520"/>
            <a:ext cx="925524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ndy"/>
              </a:rPr>
              <a:t>Transcendentalism      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ndy"/>
              </a:rPr>
              <a:t>Transcendentalist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ndy"/>
              </a:rPr>
              <a:t>most famously Henry David Thorea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i="1" lang="en-US" sz="2700" spc="-1" strike="noStrike">
                <a:solidFill>
                  <a:srgbClr val="000000"/>
                </a:solidFill>
                <a:latin typeface="Andy"/>
              </a:rPr>
              <a:t>Maine Woods 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by Thorea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: conservation of and respect for na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Pragmatis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Began in 186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Conservation of na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Yosemite, John Mui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Cruzer:Enviromentalism Pictures:images.jpg"/>
          <p:cNvPicPr/>
          <p:nvPr/>
        </p:nvPicPr>
        <p:blipFill>
          <a:blip r:embed="rId2"/>
          <a:stretch/>
        </p:blipFill>
        <p:spPr>
          <a:xfrm>
            <a:off x="5994360" y="3505320"/>
            <a:ext cx="2502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0080" y="121932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Teddy Roosevel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Cruzer:Enviromentalism Pictures:images1.jpg"/>
          <p:cNvPicPr/>
          <p:nvPr/>
        </p:nvPicPr>
        <p:blipFill>
          <a:blip r:embed="rId2"/>
          <a:stretch/>
        </p:blipFill>
        <p:spPr>
          <a:xfrm>
            <a:off x="6527880" y="609480"/>
            <a:ext cx="3289320" cy="2463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2454120"/>
            <a:ext cx="8961480" cy="27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 algn="ctr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Roosevelt and John Muir popularized environmental conserv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1916 National park service established by Stephan Mat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World Wars and Depression ended wave of environmentalis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Rachel Cars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12880" y="2286000"/>
            <a:ext cx="728964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ndy"/>
              </a:rPr>
              <a:t>Silent Spring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     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previously only focused on preservation of land (post WWII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   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focused more on toxins in consumer products and the claim that "controlling nature is both arrogant and morally bankrup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reading.jpg"/>
          <p:cNvPicPr/>
          <p:nvPr/>
        </p:nvPicPr>
        <p:blipFill>
          <a:blip r:embed="rId2"/>
          <a:stretch/>
        </p:blipFill>
        <p:spPr>
          <a:xfrm flipH="1">
            <a:off x="6856560" y="380880"/>
            <a:ext cx="33033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66880" y="4564080"/>
            <a:ext cx="660888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--Dennis Gabor, </a:t>
            </a:r>
            <a:r>
              <a:rPr b="0" i="1" lang="en-US" sz="3200" spc="-1" strike="noStrike">
                <a:solidFill>
                  <a:srgbClr val="c4da39"/>
                </a:solidFill>
                <a:latin typeface="Trebuchet MS"/>
              </a:rPr>
              <a:t>Inventing the Future, 19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263600" y="914400"/>
            <a:ext cx="746460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'Bradley Hand ITC'"/>
              </a:rPr>
              <a:t>Till now man has been up against Nature; from now on he will be up against his own nature.</a:t>
            </a:r>
            <a:r>
              <a:rPr b="1" i="1" lang="en-US" sz="4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Cruzer:Enviromentalism Pictures:1249514257XJKfGB.jpg"/>
          <p:cNvPicPr/>
          <p:nvPr/>
        </p:nvPicPr>
        <p:blipFill>
          <a:blip r:embed="rId2"/>
          <a:stretch/>
        </p:blipFill>
        <p:spPr>
          <a:xfrm rot="20340000">
            <a:off x="369720" y="3073320"/>
            <a:ext cx="230688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1970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1680" y="2560320"/>
            <a:ext cx="54864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3355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the National Environmental Policy Act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3355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the Clean Air Act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3355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the founding of Earth Day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3355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the banning of DDT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3355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the Water Pollution Control Act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3355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and the Endangered Species Act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cleanair-quicksketch-buildings.jpg"/>
          <p:cNvPicPr/>
          <p:nvPr/>
        </p:nvPicPr>
        <p:blipFill>
          <a:blip r:embed="rId2"/>
          <a:stretch/>
        </p:blipFill>
        <p:spPr>
          <a:xfrm>
            <a:off x="736560" y="762120"/>
            <a:ext cx="2465280" cy="3146400"/>
          </a:xfrm>
          <a:prstGeom prst="rect">
            <a:avLst/>
          </a:prstGeom>
          <a:ln w="0">
            <a:noFill/>
          </a:ln>
        </p:spPr>
      </p:pic>
      <p:pic>
        <p:nvPicPr>
          <p:cNvPr id="102" name="Text Box 4" descr=""/>
          <p:cNvPicPr/>
          <p:nvPr/>
        </p:nvPicPr>
        <p:blipFill>
          <a:blip r:embed="rId3"/>
          <a:stretch/>
        </p:blipFill>
        <p:spPr>
          <a:xfrm>
            <a:off x="646200" y="1579680"/>
            <a:ext cx="85644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1980s and 1990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hippie-printable-coloring-pages-1_LRG.jpg"/>
          <p:cNvPicPr/>
          <p:nvPr/>
        </p:nvPicPr>
        <p:blipFill>
          <a:blip r:embed="rId2"/>
          <a:stretch/>
        </p:blipFill>
        <p:spPr>
          <a:xfrm>
            <a:off x="6985080" y="380880"/>
            <a:ext cx="2484360" cy="3581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552600" y="1492200"/>
            <a:ext cx="895968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1980s = Negati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Oil spil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Exxon Valdez in 198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Backlash from industry against environmenta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strictures, the various Acts were not overturne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1990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radical environmentalis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PETA, Earth First, EL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activists chained themselves to trees --&gt; name "tree-huggers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environmentalism was plagued with idea of being a religious, cult-like, anti-property ownership and anti-capitalists soci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climate change labeled as an overreaction from misguided "environmentalist wackos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[Critical Thinking Questions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7960" y="590040"/>
            <a:ext cx="96616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How does the environmentalism of today compare with that of the 1970s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5320" y="2514600"/>
            <a:ext cx="86742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environmentalism of today is more main stream. 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need to be environmentally conscious is more apparent now then ever before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1970s = it was more of a radical idea. I think th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earth day coloring pages 1.gif"/>
          <p:cNvPicPr/>
          <p:nvPr/>
        </p:nvPicPr>
        <p:blipFill>
          <a:blip r:embed="rId2"/>
          <a:stretch/>
        </p:blipFill>
        <p:spPr>
          <a:xfrm>
            <a:off x="6375240" y="3733920"/>
            <a:ext cx="328320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7960" y="590040"/>
            <a:ext cx="96616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Why is it important to be apart of the "go green" movement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0720" y="1929960"/>
            <a:ext cx="9244080" cy="54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already experiencing the consequences of global warming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hot, dry weather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health risks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endangerment of wild life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melting glaciers and rising sea levels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Worse and place a huge burden on future generati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the world would cease to exist if we continue at this rat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Cruzer:Enviromentalism Pictures:1249514257XJKfGB.jpg"/>
          <p:cNvPicPr/>
          <p:nvPr/>
        </p:nvPicPr>
        <p:blipFill>
          <a:blip r:embed="rId2"/>
          <a:stretch/>
        </p:blipFill>
        <p:spPr>
          <a:xfrm rot="1695600">
            <a:off x="7527600" y="1949040"/>
            <a:ext cx="213516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4da39"/>
                </a:solidFill>
                <a:latin typeface="Trebuchet MS"/>
              </a:rPr>
              <a:t>--Marshal McLuhan, 19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protect-environment-coloring-page.jpg"/>
          <p:cNvPicPr/>
          <p:nvPr/>
        </p:nvPicPr>
        <p:blipFill>
          <a:blip r:embed="rId2"/>
          <a:stretch/>
        </p:blipFill>
        <p:spPr>
          <a:xfrm rot="21358800">
            <a:off x="6342120" y="1004760"/>
            <a:ext cx="2690640" cy="3488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earth day coloring pages 3.gif"/>
          <p:cNvPicPr/>
          <p:nvPr/>
        </p:nvPicPr>
        <p:blipFill>
          <a:blip r:embed="rId3"/>
          <a:stretch/>
        </p:blipFill>
        <p:spPr>
          <a:xfrm>
            <a:off x="431640" y="2971800"/>
            <a:ext cx="3294360" cy="3359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0" y="2438280"/>
            <a:ext cx="98553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'Bradley Hand ITC'"/>
              </a:rPr>
              <a:t>There are no passengers on Spaceship Earth. We are all crew.</a:t>
            </a:r>
            <a:r>
              <a:rPr b="1" i="1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36200" y="160020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ebecoist.com/2008/08/17/a-brief-history-of-the-modern-green-movement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nrdc.org/globalwarming/fcons.as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epa.gov/sustainability/basicinfo.ht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environment.nationalgeographic.com/environment/global-warming/gw-overview.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lewrockwell.com/rozeff/rozeff151.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fotosearch.com/photos-images/environmentalism.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symbolsgraphics.com/pictures/Nat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cagle.com/news/EnvironmentMadden/main.as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switchboard.nrdc.org/blogs/kbenfield/more_on_the_semantics_of_susta.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aarontheartist.com/?p=94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27120" y="990720"/>
            <a:ext cx="198756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Th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65200" y="228564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growing notion of environmentalism is a key part in improving the world we live in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Cruzer:Enviromentalism Pictures:czech_republic1.gif"/>
          <p:cNvPicPr/>
          <p:nvPr/>
        </p:nvPicPr>
        <p:blipFill>
          <a:blip r:embed="rId2"/>
          <a:stretch/>
        </p:blipFill>
        <p:spPr>
          <a:xfrm>
            <a:off x="355680" y="1523880"/>
            <a:ext cx="5486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What is environmentalism?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[Descriptio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Environmentalism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68520" y="2031480"/>
            <a:ext cx="6540480" cy="52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road idea and social movem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volving concerns for environmental conserv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gress of the state of the environm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ed by color gre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Cruzer:Enviromentalism Pictures:ecologo.jpg"/>
          <p:cNvPicPr/>
          <p:nvPr/>
        </p:nvPicPr>
        <p:blipFill>
          <a:blip r:embed="rId2"/>
          <a:stretch/>
        </p:blipFill>
        <p:spPr>
          <a:xfrm>
            <a:off x="7975440" y="685800"/>
            <a:ext cx="1648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Parts of Environmentalism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[Factual Questions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7960" y="588600"/>
            <a:ext cx="97171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What is the ERA? And, What role to they play in environmentalism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5"/>
          <p:cNvSpPr/>
          <p:nvPr/>
        </p:nvSpPr>
        <p:spPr>
          <a:xfrm>
            <a:off x="4273560" y="3460680"/>
            <a:ext cx="636480" cy="376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Cruzer:Enviromentalism Pictures:iStock_000010525240XSmall.jpg"/>
          <p:cNvPicPr/>
          <p:nvPr/>
        </p:nvPicPr>
        <p:blipFill>
          <a:blip r:embed="rId2"/>
          <a:stretch/>
        </p:blipFill>
        <p:spPr>
          <a:xfrm rot="2407800">
            <a:off x="7059240" y="3738240"/>
            <a:ext cx="2720880" cy="2881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5880" y="2199960"/>
            <a:ext cx="8145360" cy="35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Environmental Protection Agenc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Originally: ensured businesses met the legal requirements of pollution contro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Controlling pollution        Preventing pollu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Reduce pollutants like nitrogen oxide in the ozon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Focus on </a:t>
            </a:r>
            <a:r>
              <a:rPr b="1" lang="en-US" sz="3200" spc="-1" strike="noStrike" u="sng">
                <a:solidFill>
                  <a:srgbClr val="274e13"/>
                </a:solidFill>
                <a:uFillTx/>
                <a:latin typeface="Andy"/>
              </a:rPr>
              <a:t>SUSTAINABILITY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ndy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What is Sustainability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9000" y="1219320"/>
            <a:ext cx="92962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lvl="1" marL="411480" indent="-30816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3 ideas: environment, economy, and social justi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480" indent="-30816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1970s: Nation Environmental Policy Act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771120" indent="-2566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national goal: humans and nature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1480" indent="-20556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existing in productive harmony,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1480" indent="-20556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meet social and economic need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148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of futur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31640" y="3827520"/>
            <a:ext cx="601992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Idea evolved: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support a growing economy, reducing social and economic costs of economic grow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ruzer:Enviromentalism Pictures:sustainability.jpg"/>
          <p:cNvPicPr/>
          <p:nvPr/>
        </p:nvPicPr>
        <p:blipFill>
          <a:blip r:embed="rId2"/>
          <a:stretch/>
        </p:blipFill>
        <p:spPr>
          <a:xfrm>
            <a:off x="6222960" y="1905120"/>
            <a:ext cx="365760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320" y="1015560"/>
            <a:ext cx="9661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Sustainability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7080" y="2895120"/>
            <a:ext cx="8318520" cy="34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                     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Essentially, the idea of sustainability is to meet existing natural and economic requirements and all the people without compromising the capability of future generations to do the same according to </a:t>
            </a: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sustaindane.or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Cruzer:Enviromentalism Pictures:windmill.jpg"/>
          <p:cNvPicPr/>
          <p:nvPr/>
        </p:nvPicPr>
        <p:blipFill>
          <a:blip r:embed="rId2"/>
          <a:stretch/>
        </p:blipFill>
        <p:spPr>
          <a:xfrm>
            <a:off x="736560" y="685800"/>
            <a:ext cx="24894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6:37:10Z</dcterms:created>
  <dc:creator>Google</dc:creator>
  <dc:description/>
  <dc:language>en-US</dc:language>
  <cp:lastModifiedBy>Kassidy Hebert</cp:lastModifiedBy>
  <dcterms:modified xsi:type="dcterms:W3CDTF">2011-05-17T16:58:18Z</dcterms:modified>
  <cp:revision>6</cp:revision>
  <dc:subject/>
  <dc:title>PowerPoint Presentation</dc:title>
</cp:coreProperties>
</file>